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D72FC-913E-4920-A3DF-E739DC56B6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ADA89-56B8-4CA0-B568-393B9EA09A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7DDFB-7B9C-489D-AD89-EF1F382465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E2966-76A3-41F8-B371-C9E7C21523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5DD36-D96A-4413-88FE-59FC9C2ACD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0A3A0-9379-4746-8B87-6233803716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9AC92-96A2-410F-8711-4529C9C76B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2BEB9-524B-4FA3-A6BF-DE3A2C1416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7F337-7F8E-4DD7-9F24-E614473600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FEF38-8EC9-48C9-A7E4-F12E5BA55B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F776C-8AC0-437C-826E-660737E9DD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39F30-9308-4648-94A5-E00DC0A141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AF0A4-A5C6-434B-8CE9-5125FA277F1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844280"/>
            <a:ext cx="7772400" cy="20415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wis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388584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wing Lewis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573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ecommended procedure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 the total number of valence electrons (VSE) for the atoms (based on the column of the atom in the periodic table) and char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40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dd one electrons for each negative charge; subtract one electron for each positive charge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40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  <a:ea typeface="Arial Bold"/>
              </a:rPr>
              <a:t>HC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5240" indent="-381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+4+5-0 = 10 VSE = </a:t>
            </a:r>
            <a:r>
              <a:rPr b="0" lang="en-US" sz="2000" spc="-1" strike="noStrike">
                <a:solidFill>
                  <a:srgbClr val="000000"/>
                </a:solidFill>
                <a:latin typeface="Arial Bold"/>
                <a:ea typeface="Arial Bold"/>
              </a:rPr>
              <a:t>5 VSE pai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40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ol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  <a:ea typeface="Arial Bold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Bold"/>
                <a:ea typeface="Arial Bold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 Bold"/>
                <a:ea typeface="Arial Bold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Bold"/>
                <a:ea typeface="Arial Bold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 Bold"/>
                <a:ea typeface="Arial Bold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5240" indent="-381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(4)+6(1)+6-0 = 20 VSE = </a:t>
            </a:r>
            <a:r>
              <a:rPr b="0" lang="en-US" sz="2000" spc="-1" strike="noStrike">
                <a:solidFill>
                  <a:srgbClr val="000000"/>
                </a:solidFill>
                <a:latin typeface="Arial Bold"/>
                <a:ea typeface="Arial Bold"/>
              </a:rPr>
              <a:t>10 VSE pai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40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  <a:ea typeface="Arial Bold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Bold"/>
                <a:ea typeface="Arial Bold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Bold"/>
                <a:ea typeface="Arial Bold"/>
              </a:rPr>
              <a:t>2-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5240" indent="-381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+3(6)-(-2) = 24 VSE = </a:t>
            </a:r>
            <a:r>
              <a:rPr b="0" lang="en-US" sz="2000" spc="-1" strike="noStrike">
                <a:solidFill>
                  <a:srgbClr val="000000"/>
                </a:solidFill>
                <a:latin typeface="Arial Bold"/>
                <a:ea typeface="Arial Bold"/>
              </a:rPr>
              <a:t>12 VSE pai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wing Lewis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the framework with single bonds. Some knowledge of the way the atoms are connected may be requir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old"/>
                <a:ea typeface="ヒラギノ角ゴ ProN W6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Bold"/>
                <a:ea typeface="ヒラギノ角ゴ ProN W6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Bold"/>
                <a:ea typeface="ヒラギノ角ゴ ProN W6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Bold"/>
                <a:ea typeface="Arial Bold"/>
              </a:rPr>
              <a:t>H   C  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octets around all the atom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 Bold"/>
                <a:ea typeface="Arial Bold"/>
              </a:rPr>
              <a:t>H   C  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old"/>
                <a:ea typeface="ヒラギノ角ゴ ProN W6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Bold"/>
                <a:ea typeface="Arial Bold"/>
              </a:rPr>
              <a:t>Note:  H only has one pair of 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old"/>
                <a:ea typeface="ヒラギノ角ゴ ProN W6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Bold"/>
                <a:ea typeface="Arial Bold"/>
              </a:rPr>
              <a:t>Be only has two and B has three pai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19440" y="3416400"/>
            <a:ext cx="228600" cy="14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41880" y="3416400"/>
            <a:ext cx="228600" cy="14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97280" y="4521240"/>
            <a:ext cx="228600" cy="14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57880" y="4521240"/>
            <a:ext cx="228600" cy="14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02200" y="4216320"/>
            <a:ext cx="304560" cy="18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140360" y="4762440"/>
            <a:ext cx="228600" cy="18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724280" y="4216320"/>
            <a:ext cx="228600" cy="18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4280" y="4762440"/>
            <a:ext cx="228600" cy="18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5130000" y="4419360"/>
            <a:ext cx="1800" cy="2286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wing Lewis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nt the number of  pairs of electrons depicted. If this number is less than the total, add electrons to the central atom until the total number of electrons is correc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old"/>
                <a:ea typeface="ヒラギノ角ゴ ProN W6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Bold"/>
                <a:ea typeface="ヒラギノ角ゴ ProN W6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Bold"/>
                <a:ea typeface="ヒラギノ角ゴ ProN W6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Bold"/>
                <a:ea typeface="Arial Bold"/>
              </a:rPr>
              <a:t>H   C  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7 pairs in the drawing and there should only be f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657600" y="4114800"/>
            <a:ext cx="228600" cy="14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4191120"/>
            <a:ext cx="228600" cy="14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886200"/>
            <a:ext cx="228600" cy="14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62520" y="4343400"/>
            <a:ext cx="228600" cy="14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48320" y="3886200"/>
            <a:ext cx="228600" cy="14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4419720"/>
            <a:ext cx="228600" cy="14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4952160" y="3962520"/>
            <a:ext cx="1800" cy="3045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410080" y="3886200"/>
            <a:ext cx="252756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old"/>
                <a:ea typeface="Arial Bold"/>
              </a:rPr>
              <a:t>Unshared pairs  are non-bonding elect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105520" y="4114800"/>
            <a:ext cx="304560" cy="144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wing Lewis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90440" y="15235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98000"/>
          </a:bodyPr>
          <a:p>
            <a:pPr marL="636120" indent="-597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re are extra pairs of electron in the drawing use lone-pairs (non- bonding pairs) to make double or triple bonds and reduce the total number of electron pai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6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6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old"/>
                <a:ea typeface="ヒラギノ角ゴ ProN W6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Bold"/>
                <a:ea typeface="ヒラギノ角ゴ ProN W6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Bold"/>
                <a:ea typeface="Arial Bold"/>
              </a:rPr>
              <a:t>H   C   N</a:t>
            </a:r>
            <a:r>
              <a:rPr b="0" lang="en-US" sz="3200" spc="-1" strike="noStrike">
                <a:solidFill>
                  <a:srgbClr val="000000"/>
                </a:solidFill>
                <a:latin typeface="Arial Bold"/>
                <a:ea typeface="ヒラギノ角ゴ ProN W6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Bold"/>
                <a:ea typeface="ヒラギノ角ゴ ProN W6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 Bold"/>
                <a:ea typeface="ヒラギノ角ゴ ProN W6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Bold"/>
                <a:ea typeface="Arial Bold"/>
              </a:rPr>
              <a:t>H   C   N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6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6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old"/>
                <a:ea typeface="ヒラギノ角ゴ ProN W6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Bold"/>
                <a:ea typeface="ヒラギノ角ゴ ProN W6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Bold"/>
                <a:ea typeface="ヒラギノ角ゴ ProN W6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Bold"/>
                <a:ea typeface="ヒラギノ角ゴ ProN W6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Bold"/>
                <a:ea typeface="Arial Bol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Bold"/>
                <a:ea typeface="Arial Bold"/>
              </a:rPr>
              <a:t>H   C  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6120" indent="-597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old"/>
                <a:ea typeface="Arial Bold"/>
              </a:rPr>
              <a:t>Two unshared pairs = one bonded pai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5240" y="4114800"/>
            <a:ext cx="228600" cy="14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692760" y="4343400"/>
            <a:ext cx="228600" cy="14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108840" y="4343400"/>
            <a:ext cx="228600" cy="14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692760" y="4292640"/>
            <a:ext cx="228600" cy="14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51240" y="4343400"/>
            <a:ext cx="228600" cy="14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48120" y="4292640"/>
            <a:ext cx="228600" cy="14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390840" y="4572000"/>
            <a:ext cx="228600" cy="14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730600" y="4140360"/>
            <a:ext cx="228600" cy="14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768760" y="4572000"/>
            <a:ext cx="228600" cy="14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3707640" y="4152600"/>
            <a:ext cx="1800" cy="3049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997680" y="4114800"/>
            <a:ext cx="228600" cy="14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3170160" y="3813840"/>
            <a:ext cx="342360" cy="347760"/>
            <a:chOff x="3170160" y="3813840"/>
            <a:chExt cx="342360" cy="347760"/>
          </a:xfrm>
        </p:grpSpPr>
        <p:sp>
          <p:nvSpPr>
            <p:cNvPr id="79" name=""/>
            <p:cNvSpPr/>
            <p:nvPr/>
          </p:nvSpPr>
          <p:spPr>
            <a:xfrm rot="11340000">
              <a:off x="3192120" y="3835080"/>
              <a:ext cx="298440" cy="30492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rot="11340000">
              <a:off x="3323160" y="3845160"/>
              <a:ext cx="166680" cy="304920"/>
            </a:xfrm>
            <a:prstGeom prst="pie">
              <a:avLst/>
            </a:prstGeom>
            <a:solidFill>
              <a:srgbClr val="95b3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11340000">
              <a:off x="3346560" y="3836160"/>
              <a:ext cx="30240" cy="12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3352680" y="4114800"/>
            <a:ext cx="228600" cy="14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317840" y="5460840"/>
            <a:ext cx="228600" cy="18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952880" y="5562720"/>
            <a:ext cx="228600" cy="14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952880" y="5460840"/>
            <a:ext cx="228600" cy="18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952880" y="5359320"/>
            <a:ext cx="228600" cy="18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613480" y="5320800"/>
            <a:ext cx="1440" cy="3049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7353360" y="4203360"/>
            <a:ext cx="1440" cy="3049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6831360" y="3732480"/>
            <a:ext cx="343440" cy="348120"/>
            <a:chOff x="6831360" y="3732480"/>
            <a:chExt cx="343440" cy="348120"/>
          </a:xfrm>
        </p:grpSpPr>
        <p:sp>
          <p:nvSpPr>
            <p:cNvPr id="90" name=""/>
            <p:cNvSpPr/>
            <p:nvPr/>
          </p:nvSpPr>
          <p:spPr>
            <a:xfrm rot="11340000">
              <a:off x="6853320" y="3754080"/>
              <a:ext cx="299520" cy="30492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1340000">
              <a:off x="6984720" y="3764160"/>
              <a:ext cx="167400" cy="304920"/>
            </a:xfrm>
            <a:prstGeom prst="pie">
              <a:avLst/>
            </a:prstGeom>
            <a:solidFill>
              <a:srgbClr val="95b3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rot="11340000">
              <a:off x="7008480" y="3755160"/>
              <a:ext cx="30240" cy="12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wis Structures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Lewis Structure for the following compou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ヒラギノ角ゴ ProN W3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ヒラギノ角ゴ ProN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  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  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ヒラギノ角ゴ ProN W3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ヒラギノ角ゴ ProN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  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ヒラギノ角ゴ ProN W3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ヒラギノ角ゴ ProN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.  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kutcher</dc:creator>
  <dc:description/>
  <dc:language>en-US</dc:language>
  <cp:lastModifiedBy/>
  <cp:revision>0</cp:revision>
  <dc:subject/>
  <dc:title>Lewis Structures and Molecular Geometry</dc:title>
</cp:coreProperties>
</file>